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34409"/>
        <c:axId val="91320215"/>
      </c:barChart>
      <c:catAx>
        <c:axId val="56234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20215"/>
        <c:crosses val="autoZero"/>
        <c:auto val="1"/>
        <c:lblAlgn val="ctr"/>
        <c:lblOffset val="100"/>
        <c:noMultiLvlLbl val="0"/>
      </c:catAx>
      <c:valAx>
        <c:axId val="91320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34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63C-C21B-4F3A-92F7-F1450042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265-F668-4D07-A783-9BB1787E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4CE-F0A3-4582-93E4-DBDF5435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745-B462-4E5A-99B0-09F8D053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46A-7FBC-44F4-B4D8-44465D8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E03-90FB-44BD-BC69-D8D31C0B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E0C-DFA9-4BFB-BF78-BC1657B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284-1035-4608-879B-B538772A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521-0FAE-484A-9CAF-D309208F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D1D-E4F4-461A-8BFF-3D8ADC4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A4B-E5E2-40C0-88D6-CEEB7E2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558-85C0-44F2-BAEE-333260C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5D097-54DA-4F4E-B534-E747B3302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