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96723"/>
        <c:axId val="81017856"/>
      </c:barChart>
      <c:catAx>
        <c:axId val="44496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7856"/>
        <c:crosses val="autoZero"/>
        <c:auto val="1"/>
        <c:lblAlgn val="ctr"/>
        <c:lblOffset val="100"/>
        <c:noMultiLvlLbl val="0"/>
      </c:catAx>
      <c:valAx>
        <c:axId val="81017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96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C44-9555-411C-91DA-C904BE1B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09D-B02E-4362-BD5E-918998A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CBF-7650-45C6-88D3-6A8F3EAF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CDA-DAFF-4AC2-BF8A-AA3E14B6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14C-6866-4A24-B3A1-CC559489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7F4-233D-4B9C-A1AC-42F0C5E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48E-10E3-4022-83F8-BE7B920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EE3-1377-414B-B1A7-1A2EC03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A95-6C15-4C18-BBFC-7EB73C4B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488-20D3-4DAB-978A-ECBD3D4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AB0-FFA9-4DA5-95E8-7B8F21A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3E5-E088-4D02-BBEB-8A0D0CB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D309B-66D0-4069-81EE-E71E8C42A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