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59851"/>
        <c:axId val="27162978"/>
      </c:barChart>
      <c:catAx>
        <c:axId val="67559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62978"/>
        <c:crosses val="autoZero"/>
        <c:auto val="1"/>
        <c:lblAlgn val="ctr"/>
        <c:lblOffset val="100"/>
        <c:noMultiLvlLbl val="0"/>
      </c:catAx>
      <c:valAx>
        <c:axId val="27162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9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C19-A112-4A9A-AC8C-2A820AB8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D3A-4B3B-4A31-A240-7B7BCBB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D7E-A57E-4A85-B8FD-64D12816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B8C-DFD5-4A59-B57E-0138252F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B1D-2D86-42A1-9BCE-7DC4E84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CC2-FBA2-4355-9852-20B7390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5D8-B58E-4FE0-ADB9-B77542E1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B11-4B1F-45BF-86ED-51428CB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543-F86B-4325-9D7F-01528452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D76-DDBA-4E50-8856-6AC39CD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BE2-7B2B-4C14-86EE-A77EEAD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75B-CB87-4752-BD00-E983FCF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3FD99-6D5D-4E1E-BD08-50B85625A5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