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61787"/>
        <c:axId val="26801471"/>
      </c:barChart>
      <c:catAx>
        <c:axId val="68661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01471"/>
        <c:crosses val="autoZero"/>
        <c:auto val="1"/>
        <c:lblAlgn val="ctr"/>
        <c:lblOffset val="100"/>
        <c:noMultiLvlLbl val="0"/>
      </c:catAx>
      <c:valAx>
        <c:axId val="26801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61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9FC-05B2-46D9-B343-07C34E77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F89-B888-4D2E-B90A-534F746D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AC0-537A-4F14-9312-B0275AB2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944-7C2D-4793-B6A8-9A0B5B48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554-FB6D-4E6E-9031-EEEB3C9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548-8182-4A10-86EB-75A7A8F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E3F-672C-4F7B-A9AC-1F33FA8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134-E00B-4891-A03A-1E604E8F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225-9B93-4D4B-9250-9DFA519D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73F-5082-406D-9A14-5907A537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47B-2537-4264-83C7-3D4DFA5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6B1-325A-4545-9377-31946AF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75FA7-B237-4607-B2C6-20AAD4D41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