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411397"/>
        <c:axId val="89911244"/>
      </c:barChart>
      <c:catAx>
        <c:axId val="894113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911244"/>
        <c:crosses val="autoZero"/>
        <c:auto val="1"/>
        <c:lblAlgn val="ctr"/>
        <c:lblOffset val="100"/>
        <c:noMultiLvlLbl val="0"/>
      </c:catAx>
      <c:valAx>
        <c:axId val="899112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4113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FC98-C3D2-47DE-8CEA-EAFBE5F0A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7E9A-4A6F-4CA4-8A5F-8360A8644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6CAB-75F2-4DF1-A610-80EDE8A01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774C-8651-4CDC-85AB-D4C916530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B631-56A6-4156-9146-D9DDF376C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27D0-198B-4C6C-B4B9-2ED39B39C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C257-AB75-4A2A-BA5B-D23EF1B9F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C838-0817-48E1-83D1-6A9574A3D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1D15-2054-461D-9640-2005DB20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092F-8A8D-4EAF-8BF2-B55828B9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7955-A157-486F-BF4D-6170894D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2BBB-F694-40A5-B99A-25920183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D774E0-7CD0-48DD-B4EB-A928BA035EE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