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57317"/>
        <c:axId val="3166054"/>
      </c:barChart>
      <c:catAx>
        <c:axId val="15657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6054"/>
        <c:crosses val="autoZero"/>
        <c:auto val="1"/>
        <c:lblAlgn val="ctr"/>
        <c:lblOffset val="100"/>
        <c:noMultiLvlLbl val="0"/>
      </c:catAx>
      <c:valAx>
        <c:axId val="31660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57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202-5FE7-4463-A2E5-435F089A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0F9-1153-43C8-BA02-B8C6BF82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DA76-FA97-4239-AAF5-D33BD794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6F3-9BCF-41EA-9587-BD10952D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671-8843-4266-8A0B-FB67B764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2C2D-EB63-47C9-B983-FEC92F25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AE3-E7B4-471C-BAE6-02015E0D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EFB4-75B0-406F-B2D7-9032BD12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777-16DC-4DC5-A0C0-7057EDE2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F8F-A79A-4206-975B-EC5E6EDC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394-DB85-4D5F-B465-82420375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BDD-D1A8-4C3F-A22D-872E6FBB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AEEDA-4CA7-4C05-A3EE-24FB118940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