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42289"/>
        <c:axId val="84909179"/>
      </c:barChart>
      <c:catAx>
        <c:axId val="16542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09179"/>
        <c:crosses val="autoZero"/>
        <c:auto val="1"/>
        <c:lblAlgn val="ctr"/>
        <c:lblOffset val="100"/>
        <c:noMultiLvlLbl val="0"/>
      </c:catAx>
      <c:valAx>
        <c:axId val="84909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42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D95-4F17-4AE6-96C7-B60F0F9D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7D6-1963-4527-88C6-6E8A72EF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6E8-15D9-469C-AE98-C39B2346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0BD-8171-477A-8236-54DB0B79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8EA-2D0F-4E15-AEE8-8B7F5544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D7B-7CC0-42A7-90D6-590246B8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ABA-0849-4886-9DCF-F551865E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337-9B52-4395-AD0A-C64A49FA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E70-C8D7-47E9-9793-4E720B0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E65-0C37-4C43-97CC-36FE0A3B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DD7-412B-4108-83AF-55F2F25D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BE4-FE7D-4280-AE77-FDADEE1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58B19-9F1F-4E96-81B3-D4D6D8AE6C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