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49880"/>
        <c:axId val="24507788"/>
      </c:barChart>
      <c:catAx>
        <c:axId val="35949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7788"/>
        <c:crosses val="autoZero"/>
        <c:auto val="1"/>
        <c:lblAlgn val="ctr"/>
        <c:lblOffset val="100"/>
        <c:noMultiLvlLbl val="0"/>
      </c:catAx>
      <c:valAx>
        <c:axId val="2450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9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B2E-BBA3-43BF-8FA7-57C9020B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071-F6B5-4262-ABE1-5F85E075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68C-5605-4A33-B90B-B7C938E5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4B2-F0AB-43A3-940A-BB2709A9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5DA-8D13-471F-82BD-97EC4C7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2B7-D293-4ADA-A5E8-DA11941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3C6-E7E4-4DB1-A29D-249A4D9F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BA3-8796-4FF1-892A-80EEAFD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478-5D74-4B22-B9CB-731C0C1F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A22-FF2D-411F-AD94-0A84225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4A9-0F69-47BF-A205-EB92E06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F90-297F-4591-BFF5-14ACDAD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4A58-EA4C-4510-8089-459918A0F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