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36706"/>
        <c:axId val="17850594"/>
      </c:barChart>
      <c:catAx>
        <c:axId val="57336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0594"/>
        <c:crosses val="autoZero"/>
        <c:auto val="1"/>
        <c:lblAlgn val="ctr"/>
        <c:lblOffset val="100"/>
        <c:noMultiLvlLbl val="0"/>
      </c:catAx>
      <c:valAx>
        <c:axId val="17850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6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036-E279-4142-9F02-41F573A8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143-D9BF-485F-9D1B-EC26DD1D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81D-3EAE-4476-BE74-9A759F56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A28-7633-4A4A-B21C-89DF5154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A7C-F52E-47CC-9CA1-7BFB20B9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6BE-B0C6-4EAD-A241-252BD761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5F1-E5C0-4FBB-9E39-C484D55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DB0-1E85-460D-B16B-49332A5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31C-01D0-45E7-B8A7-8349E6D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108-41FC-4692-969A-DE01346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6B9-9854-43FD-89B9-2892E59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1CE-8492-4A5E-A462-B540A32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10CCD-8A24-445F-A2B1-D4F36D2E6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