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81473"/>
        <c:axId val="36773652"/>
      </c:barChart>
      <c:catAx>
        <c:axId val="84481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3652"/>
        <c:crosses val="autoZero"/>
        <c:auto val="1"/>
        <c:lblAlgn val="ctr"/>
        <c:lblOffset val="100"/>
        <c:noMultiLvlLbl val="0"/>
      </c:catAx>
      <c:valAx>
        <c:axId val="36773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81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ED4-9789-4018-8967-27F7C505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81F-D7CB-46C7-BDBA-36FCF36C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CA3-960E-4F3A-8F3B-108F687C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4B9-609D-4DCE-B6A8-416311FA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37E-88EA-482B-A4C9-66D53BB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036-C932-4EC7-9247-9790AC5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56A-5F06-4CDF-98DF-B35FBAD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136-31F2-47BF-979D-6C3DE45F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F4D-5D32-40F4-B05D-DAE1E745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224-D8D7-4634-BC6D-B1FA447F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D6F-EBCE-40AD-A08D-7989C23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A42-552F-4BAD-B154-A642A1D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4A81-DBB7-4080-95AB-DF1948B79D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