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675449"/>
        <c:axId val="13275708"/>
      </c:barChart>
      <c:catAx>
        <c:axId val="976754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275708"/>
        <c:crosses val="autoZero"/>
        <c:auto val="1"/>
        <c:lblAlgn val="ctr"/>
        <c:lblOffset val="100"/>
        <c:noMultiLvlLbl val="0"/>
      </c:catAx>
      <c:valAx>
        <c:axId val="132757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6754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7775-0079-4801-A6FD-1CA11E916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8EA1-51E9-4329-B8F8-9129E70CF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FD9C-E9B2-4193-8430-B88FF3D77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AF2A-BFA5-4C71-83A1-1AAA27B55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6147-2E19-47ED-A9D6-45D6AEF75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5C81-BE27-4BE6-9D85-5EA967EC9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0BDA-FB5C-4137-B138-ECAC87128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B705-5E83-490E-B691-435D0E112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39A6-F7C2-48DE-8FED-EBB4F499B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7A32-00C7-40DF-9D54-91C0E43E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34F0-D48A-43D4-8B17-8AF5EAD4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9F41-80E2-4356-BD77-9AEEB29B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4C5C3C-F196-41FF-8E98-608189A7DC2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