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85411"/>
        <c:axId val="70725561"/>
      </c:barChart>
      <c:catAx>
        <c:axId val="36785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25561"/>
        <c:crosses val="autoZero"/>
        <c:auto val="1"/>
        <c:lblAlgn val="ctr"/>
        <c:lblOffset val="100"/>
        <c:noMultiLvlLbl val="0"/>
      </c:catAx>
      <c:valAx>
        <c:axId val="70725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85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A98-2AEA-4CC0-9048-68CA3C88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DBE-0AAA-4BE3-BF9D-252CD17D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65ED-5BBD-40CF-A931-2BA40EEC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000-3673-45E9-9593-1D944D68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086-F311-46AA-A821-0F1120A0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D10-949B-4DFF-BA3D-63B22CD6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5FB-13B2-4813-81CF-230E1AFE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C1F-7894-45B3-99DC-2FCDADC8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DA0-280C-4AAB-913C-6EFF4D29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3CE-F054-4927-B0B9-FBE9578E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A36-CBBD-4CBE-83F2-3A818BC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480-5638-4EB5-ACC0-B9DAC67B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81C09-6243-4432-A3F0-5B7ED3CAC9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