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58895"/>
        <c:axId val="35904921"/>
      </c:barChart>
      <c:catAx>
        <c:axId val="49258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04921"/>
        <c:crosses val="autoZero"/>
        <c:auto val="1"/>
        <c:lblAlgn val="ctr"/>
        <c:lblOffset val="100"/>
        <c:noMultiLvlLbl val="0"/>
      </c:catAx>
      <c:valAx>
        <c:axId val="35904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58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0B0-B171-4E7F-B4AA-871020AB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7F4-1271-4CA8-A8F1-0F6E849F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CCE-3196-41AE-9B06-3195C9CC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B23-7BDF-48B9-85EE-490EFC89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3F0-27F0-47A3-848E-801724E7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7FB-A453-435E-A112-A725BB01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369-78EF-47B1-99CC-B70CA674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9C4-2B57-4B5A-8D22-81BE5186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D8F-7E38-4B8B-8F30-828DD188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0B8-95C9-4C09-B71F-C057F3EF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8F4-5ACB-4621-AAB0-E6D1C069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86C-E45B-45BD-91A4-48143651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F3065-147A-43C1-BBCB-F1C53ABF6B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