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98770"/>
        <c:axId val="15322059"/>
      </c:barChart>
      <c:catAx>
        <c:axId val="600987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22059"/>
        <c:crosses val="autoZero"/>
        <c:auto val="1"/>
        <c:lblAlgn val="ctr"/>
        <c:lblOffset val="100"/>
        <c:noMultiLvlLbl val="0"/>
      </c:catAx>
      <c:valAx>
        <c:axId val="15322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987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2739-C0E1-48F7-A7EA-F2448749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597-DD96-4333-902D-D8B57D5D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6DD-1D26-4A95-83B8-DB2EE5C4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B36F-7E82-4D9A-B47D-356975CB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025-437B-4516-95D9-BB74500E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3908-BAA9-45A8-B5B6-E57ABA2E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6E8-BE27-4396-AFEF-1D2B0D56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283-9FAF-4E82-B886-F7A9B1CA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C0D-8CE0-4910-A05F-F4E43496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22D8-6A83-4D14-8DD5-F5FA4CF7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29B-8415-4455-83F4-D35A9A80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D77-B787-478A-A9A6-9F70BBE4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CB812-0C87-4593-9C03-E3C6F56F86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