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38537"/>
        <c:axId val="61279891"/>
      </c:barChart>
      <c:catAx>
        <c:axId val="81538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79891"/>
        <c:crosses val="autoZero"/>
        <c:auto val="1"/>
        <c:lblAlgn val="ctr"/>
        <c:lblOffset val="100"/>
        <c:noMultiLvlLbl val="0"/>
      </c:catAx>
      <c:valAx>
        <c:axId val="61279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38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6C9-B629-4715-A3B7-D0205839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FA2-BB5C-4D13-B836-5ED4A9FA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ED5-3C26-44F7-B2E7-EF916BF6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8B9-18E2-4674-A74E-9E01B041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844-F466-46EE-A760-0E320963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F20-FC60-4CD4-81D8-B57C72EB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CE5-3546-4A3B-8896-E7D80828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247-ED94-44A3-B04E-E330F1D4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0C4-4C87-4792-9F79-7A70524A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2AC-E1B0-49B9-8A47-F80974C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63D-57C5-4A57-8B2A-4023FA95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046-1583-475B-800E-A85D3803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E3BC9-1DFA-4EEE-A0B9-BBC062C15F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