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9657"/>
        <c:axId val="88754279"/>
      </c:barChart>
      <c:catAx>
        <c:axId val="7629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54279"/>
        <c:crosses val="autoZero"/>
        <c:auto val="1"/>
        <c:lblAlgn val="ctr"/>
        <c:lblOffset val="100"/>
        <c:noMultiLvlLbl val="0"/>
      </c:catAx>
      <c:valAx>
        <c:axId val="88754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9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C0D-9856-4049-9D4E-13627F95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357-248C-44FE-BDAE-AD1D12C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E27-3B13-4921-8CE9-8BD6F7CE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9E3-03D1-4C81-87D6-4586914A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660-C9B4-4C53-8626-A0F5765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654-474B-4CF6-AA8B-B369631E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714-BCD7-4523-B918-E80E46E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993-394A-4A92-A22F-6E874D0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6B1-B63B-4A1C-842C-ECE8ECCE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BD0-50A2-4CB1-A81D-735A2B6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A9C-03E4-4FF4-8ED5-AF51F99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8E5-AA67-4778-A861-E0883ED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18E3E-867D-4312-A827-824ADF712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