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73568"/>
        <c:axId val="45988835"/>
      </c:barChart>
      <c:catAx>
        <c:axId val="90735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88835"/>
        <c:crosses val="autoZero"/>
        <c:auto val="1"/>
        <c:lblAlgn val="ctr"/>
        <c:lblOffset val="100"/>
        <c:noMultiLvlLbl val="0"/>
      </c:catAx>
      <c:valAx>
        <c:axId val="459888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35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E7CE-5A49-46DD-B08B-E4204F6F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D808-3727-4BCE-8BAE-0B6B5CA8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F749-927B-4285-B719-3AEF9379F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9617-C2A5-44CA-A0D2-02881B1B7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C369-6AEF-4D63-B3AC-B4A5D0A7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D71A-6A7D-4CC4-AE29-E6C80A51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7F89-8791-454E-8553-5C79FAEF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ED2B-B32C-4059-972B-8208D38C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98AE-97A1-48C4-BCD0-66158F34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01F9-1E16-4F65-BA9E-DD61279D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F912-E945-47A1-BF4F-C1F71AFA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8635-8171-48AF-9736-4609BC42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0CF2C-FF03-4156-957E-D7325F8A3F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