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36615"/>
        <c:axId val="80300915"/>
      </c:barChart>
      <c:catAx>
        <c:axId val="71036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00915"/>
        <c:crosses val="autoZero"/>
        <c:auto val="1"/>
        <c:lblAlgn val="ctr"/>
        <c:lblOffset val="100"/>
        <c:noMultiLvlLbl val="0"/>
      </c:catAx>
      <c:valAx>
        <c:axId val="80300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36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13D-0EFC-41C4-91C9-61AA0350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320-5052-4405-8CC7-D92D3C1A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ACE-2517-419E-9969-216255FD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3DE-7BE2-4540-B4C6-9F66E631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1A3-DC67-477D-91F2-737E910B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C4D-047E-4FD4-89C4-7668305B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984-0E3F-4A3A-AB81-103BAB3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49F-1E8B-43E9-A4DF-5AB276F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A0A-7E30-4CDB-9073-4E0C561A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BA2-68E3-467D-9053-3B64A74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0EF-4700-4FCD-B397-6786A9A6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32F-DAF0-4154-94A6-F5E8E65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67098-9FC5-464A-9F22-9CA54D1436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