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16097"/>
        <c:axId val="13958438"/>
      </c:barChart>
      <c:catAx>
        <c:axId val="15816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58438"/>
        <c:crosses val="autoZero"/>
        <c:auto val="1"/>
        <c:lblAlgn val="ctr"/>
        <c:lblOffset val="100"/>
        <c:noMultiLvlLbl val="0"/>
      </c:catAx>
      <c:valAx>
        <c:axId val="13958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16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195-702F-4349-8BF1-D3E4CCA5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BF2-EAFD-4DD5-8DCF-75EC91C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72B-320A-4D16-9A30-5A9CC66C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F39-125F-4380-8D35-CEC9FA68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7E1-EAD9-4458-8E0A-22B2BF36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2FE-CEF1-4ACA-BE1A-54D01406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DE5-95E7-48B6-8953-7E997FBE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216-232B-46E9-B8C8-24691879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F75-5ABE-4392-BF6D-5B64916F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737-DFA4-499F-A267-E75ACA7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62C-5C09-4600-856D-CE966775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FD4-02F3-4648-8085-978585D6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859B9-5B32-44A6-9E66-9619A902EE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