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48585"/>
        <c:axId val="59375156"/>
      </c:barChart>
      <c:catAx>
        <c:axId val="80648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75156"/>
        <c:crosses val="autoZero"/>
        <c:auto val="1"/>
        <c:lblAlgn val="ctr"/>
        <c:lblOffset val="100"/>
        <c:noMultiLvlLbl val="0"/>
      </c:catAx>
      <c:valAx>
        <c:axId val="59375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48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44A-B62A-4FF2-B488-FCF8CB3B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2E1-167C-4AF8-BAAB-5A186DDD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0F2-6064-4A8E-A830-63A317CD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BEC-F772-4241-B015-7D2ABDE7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772-C753-4CD8-8657-308FAF65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D25-D610-4B8E-9909-0B5F1C27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B64-8A7A-4277-B0A7-432B775E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87E-7936-46A2-A9B5-63538D59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7D6-922C-4BBC-83DE-0DBA78C5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E54-A86A-4361-919C-6C093E84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21F-CC7F-4E10-A93E-504AFE5F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04A-396C-4549-8D33-955763C5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B9BFE-1A38-4288-B6AE-ED58A96838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