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36661"/>
        <c:axId val="70510337"/>
      </c:barChart>
      <c:catAx>
        <c:axId val="18036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10337"/>
        <c:crosses val="autoZero"/>
        <c:auto val="1"/>
        <c:lblAlgn val="ctr"/>
        <c:lblOffset val="100"/>
        <c:noMultiLvlLbl val="0"/>
      </c:catAx>
      <c:valAx>
        <c:axId val="70510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36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C11-58F1-461C-9E58-4CF56A29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CFD-66B8-4DC3-9447-218D1CAF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4B7-5C16-4C18-BEB2-8C3923E9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2E8-E6FF-4755-B2BC-34C76C44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D32-2964-48CA-BD87-0661FDE0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E5B-4F8E-4942-A634-1901CDED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6AF-B265-420F-81B2-FA9FCC57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5C3-917F-4AEC-97E3-BC3E43ED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A5B-D290-4061-9DE3-C22AFEB0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516-8580-4FBF-A515-4F75DCC9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CC7-E98A-4D67-919E-3AF8ABFC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F69-EBA2-4ADD-BA3A-7D598027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B5EC5-A096-4B03-A229-FBC59D3F6E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