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21746"/>
        <c:axId val="11909010"/>
      </c:barChart>
      <c:catAx>
        <c:axId val="85321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9010"/>
        <c:crosses val="autoZero"/>
        <c:auto val="1"/>
        <c:lblAlgn val="ctr"/>
        <c:lblOffset val="100"/>
        <c:noMultiLvlLbl val="0"/>
      </c:catAx>
      <c:valAx>
        <c:axId val="11909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21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EF4-1EE3-41F5-868C-E4FBE60D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425-3F40-4F64-9662-CDB2197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F40-A537-41DA-8A75-F48A306F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6DE-0C66-45F1-AEC6-08D8C0FB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BDB-9FBA-43DD-873D-286E2F3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ED1-3C21-4E40-8A4F-9318A65E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990-A711-4FAA-B09D-4317060B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CD5-C982-436B-A132-2AA2D597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B4E-D600-4506-BF6B-AE87808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B21-5260-4739-B1BA-FDC5492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ACE-0928-45C7-94B3-8AB907A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D6C-AF17-484F-8401-CABD91C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7E5D4-6835-4BE6-9C6C-CE751ED02E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