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03233"/>
        <c:axId val="79054697"/>
      </c:barChart>
      <c:catAx>
        <c:axId val="24103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54697"/>
        <c:crosses val="autoZero"/>
        <c:auto val="1"/>
        <c:lblAlgn val="ctr"/>
        <c:lblOffset val="100"/>
        <c:noMultiLvlLbl val="0"/>
      </c:catAx>
      <c:valAx>
        <c:axId val="79054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03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D2BC-E98A-46BB-9612-38E06ABC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C25-4116-4193-96A3-53063BF2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5AE-40DE-4A0F-BEED-CFD1D30F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A8C-7BFC-4910-AE4D-BF4ED160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85D-EFED-4734-AFAC-A8E86466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096-8029-48B4-BE40-AEB3D6F1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F77-FC93-4BC2-9BEC-BE9D9387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9AF-BFEF-41AD-90B0-4E47D505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8B8-59C1-43BF-A536-F1FBB0D5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36D-E47B-4518-BBFE-040B6BF4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640-AD2A-4415-96E7-490D1049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D859-691C-43F7-8497-1688A722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498CE-4939-4AC5-96E8-B1EB8E4C1B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