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111180"/>
        <c:axId val="12482376"/>
      </c:barChart>
      <c:catAx>
        <c:axId val="601111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82376"/>
        <c:crosses val="autoZero"/>
        <c:auto val="1"/>
        <c:lblAlgn val="ctr"/>
        <c:lblOffset val="100"/>
        <c:noMultiLvlLbl val="0"/>
      </c:catAx>
      <c:valAx>
        <c:axId val="12482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111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F16C-DBCA-460F-982F-E7257808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42C0-533C-4EA0-9F36-85526732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D41-7458-479E-A9A3-19FEADEB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FC6-2267-480A-83D6-5D93D6F8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4A8D-CAA0-4D71-91CC-A86A8C5E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4CC7-CFCD-4254-AAD9-E9A71B36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0E5-DB72-416B-906F-7B0BFE17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58B-0D8A-4C53-895A-93BFDAA1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A522-04FC-4866-8E45-B9D01FA9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CAE8-06F9-4ED3-880B-822F67BE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AA2-14CD-444D-AC4E-4F56F02D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9712-269B-4449-A73E-F26A2CDD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2D8AA-0639-45C0-B74C-CA253B708F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