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25252"/>
        <c:axId val="69431926"/>
      </c:barChart>
      <c:catAx>
        <c:axId val="67825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31926"/>
        <c:crosses val="autoZero"/>
        <c:auto val="1"/>
        <c:lblAlgn val="ctr"/>
        <c:lblOffset val="100"/>
        <c:noMultiLvlLbl val="0"/>
      </c:catAx>
      <c:valAx>
        <c:axId val="69431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25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F26-9E2C-4719-B3EC-0FBD2FFA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932-5656-4DDB-8B53-71E647C8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99D-83C1-4C8F-A3D4-545CEBAA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2C7-57CD-409B-9D7C-C69FCBC5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E38-1367-4CE7-B2D8-89A0B82A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309-9D65-4A68-AC67-BDF6024F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4B6-2011-4943-8D4C-D7365391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5DF-F1E1-461C-A0C7-DC24DC89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BD6-C3C5-4EA8-A600-3E48368F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F70-F408-429F-9B1E-89E71D31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A24-1DA9-4AA9-AA4C-1374CD8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3F5-496D-432E-8E4D-BD79CE44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DC3FB-EF94-4343-BE88-7F9BD7F0AA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