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256422"/>
        <c:axId val="10570974"/>
      </c:barChart>
      <c:catAx>
        <c:axId val="432564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70974"/>
        <c:crosses val="autoZero"/>
        <c:auto val="1"/>
        <c:lblAlgn val="ctr"/>
        <c:lblOffset val="100"/>
        <c:noMultiLvlLbl val="0"/>
      </c:catAx>
      <c:valAx>
        <c:axId val="105709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564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9B0A-CA4C-498F-ACD7-B384709C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7F17-B88E-4859-8312-CD87E487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43C-9974-4237-826F-FBB05028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622-D5C0-4FFA-8B71-2FDEE8B6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1D02-C7A0-4ECC-9C0B-C3057E5C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A929-015B-4589-BC84-ECF0D4EA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318E-F90B-435D-892D-2CA890BB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E897-8C63-4F85-BFB5-D8BFFBBE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109-C272-46D8-B34F-CB1D10ED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0489-4224-4C76-AC5C-4E854E75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939-2E7F-4443-96B8-2CBF1A90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17C0-70BD-4C20-917B-3D7BAA72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0DC2B-334E-4763-8391-5E4D8870D3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