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57705"/>
        <c:axId val="35625045"/>
      </c:barChart>
      <c:catAx>
        <c:axId val="46857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25045"/>
        <c:crosses val="autoZero"/>
        <c:auto val="1"/>
        <c:lblAlgn val="ctr"/>
        <c:lblOffset val="100"/>
        <c:noMultiLvlLbl val="0"/>
      </c:catAx>
      <c:valAx>
        <c:axId val="35625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57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278-52B9-4113-BBD4-C5F655B9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9D4-04BF-4EDB-9EE3-8D1A9257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FA0-B904-454C-99D5-99F75AB2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C6B-063D-4687-9872-0C807782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CCB-905B-41CF-8488-15C14F01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3B0-9426-4830-B1D2-F95DFADF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EC8-B93A-4806-B0E9-FAFE05CB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BD2-3EB7-4C28-88E4-27FBF0B4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44C-6235-435B-8F1C-D877D1F6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CFE-7AE0-4E4A-96FA-579ED2C0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83B-9ECF-46F2-8C95-103A62CF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952-352E-4032-BB85-AB16FBDF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4DC29-4141-4690-8DDF-E84013E9A1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