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05446"/>
        <c:axId val="2116304"/>
      </c:barChart>
      <c:catAx>
        <c:axId val="55105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6304"/>
        <c:crosses val="autoZero"/>
        <c:auto val="1"/>
        <c:lblAlgn val="ctr"/>
        <c:lblOffset val="100"/>
        <c:noMultiLvlLbl val="0"/>
      </c:catAx>
      <c:valAx>
        <c:axId val="2116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05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960-42FD-4BE4-837C-B23C4B35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30D5-0323-4D35-BD1A-8C040E98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A72F-62D1-498F-8519-9AE73483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4E4-10B3-4477-8D89-E3094B6E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862-6E8B-4E0C-9461-01E53C5D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8AFD-EA95-46AA-89F6-DA7FF152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BEE-713B-4D5E-A655-7C801849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178-135F-42C2-8A29-C0B2BFD8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3B4-D279-43AA-9C05-0736AE28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AEB-7D1C-4A8A-A82B-AFAB0CBE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0C1-D313-4EB1-83F9-BCAA383F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522E-AC0B-4FA6-A77B-D0E8A973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9D067-6943-49EF-ABF6-18FDB68AD2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