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04166"/>
        <c:axId val="4921989"/>
      </c:barChart>
      <c:catAx>
        <c:axId val="26904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1989"/>
        <c:crosses val="autoZero"/>
        <c:auto val="1"/>
        <c:lblAlgn val="ctr"/>
        <c:lblOffset val="100"/>
        <c:noMultiLvlLbl val="0"/>
      </c:catAx>
      <c:valAx>
        <c:axId val="4921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04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501-ACAE-4646-BF96-0A6BDEB3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057-0408-4474-8C6C-A2F9AB02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FDD-AAB9-414D-89F5-4ACFA26C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814-0EFC-4517-85F6-16502327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5CB-E2A6-4F83-AA71-D0DF560A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71F-9192-409A-82AF-38F80223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66C-CE84-408F-962C-95A8A55D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824-86EC-48D3-8D36-81AB5F21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1FB-5825-4412-A0C3-103AA977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3D8-8BCE-4D99-B50A-199A6C54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B2A-8854-446E-A062-7167CD8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003-72AE-41D6-8FBD-9C9125C0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5C800-75C3-4657-AF0D-C6C6645014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