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123406"/>
        <c:axId val="16577804"/>
      </c:barChart>
      <c:catAx>
        <c:axId val="461234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577804"/>
        <c:crosses val="autoZero"/>
        <c:auto val="1"/>
        <c:lblAlgn val="ctr"/>
        <c:lblOffset val="100"/>
        <c:noMultiLvlLbl val="0"/>
      </c:catAx>
      <c:valAx>
        <c:axId val="165778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234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9A6B-43F7-492F-AA94-90819FB3F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039D-3826-4903-98E2-FFBA3772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076A-B137-4528-9BDF-DCEC0CD4C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A7F7-33CF-48A7-9A8B-47CA5424B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C14F-A594-4F54-84E4-D951CCF6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85EC-BD76-4152-8F8E-CCC5B111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7B68-BABC-4F7D-8B79-41EEFFE1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8D61-08DA-43CF-863E-0656D752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0B75-9FBF-4A48-9BA4-5505C854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BF2B-0500-4E88-885F-B5E98357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AE97-4CBC-4B6A-9611-84FDE5C6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BAC9-F800-4B2C-9A04-3980A6E2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22C06-C6A7-40FE-AEEA-FEE20F68E1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