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39444"/>
        <c:axId val="57003081"/>
      </c:barChart>
      <c:catAx>
        <c:axId val="91439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03081"/>
        <c:crosses val="autoZero"/>
        <c:auto val="1"/>
        <c:lblAlgn val="ctr"/>
        <c:lblOffset val="100"/>
        <c:noMultiLvlLbl val="0"/>
      </c:catAx>
      <c:valAx>
        <c:axId val="57003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39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7DF-2E15-43C0-944C-D5458D6F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5E7-C860-4D57-B318-035E8F02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240-A900-4B44-A93D-23E8F033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1BE-0C14-4B61-AF17-18560A4D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4A8-8CBC-434F-BDCA-F4BF12E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08B-C064-4DFC-9277-2194D5F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418-1E6D-4719-A0DA-4698332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5B0-480D-416B-A5C2-AB848492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FE7-8567-447C-95F5-E21A7D93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AA5-5CFA-45A1-8E09-887DA6B5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444-D060-40CE-ABAD-90D4C31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9E2-471F-462D-B993-A96960A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DB655-72CA-43A7-8977-E2131034CC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