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22959"/>
        <c:axId val="53870274"/>
      </c:barChart>
      <c:catAx>
        <c:axId val="60422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0274"/>
        <c:crosses val="autoZero"/>
        <c:auto val="1"/>
        <c:lblAlgn val="ctr"/>
        <c:lblOffset val="100"/>
        <c:noMultiLvlLbl val="0"/>
      </c:catAx>
      <c:valAx>
        <c:axId val="53870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2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927-3DDC-4CEA-A153-6CC4BA47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6BC-85A4-47E0-833A-3DB2BF03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277-EAA4-4178-AB21-31F1DFB6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81F-8533-47C1-AE7F-7CA9B5BF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C58-6479-4381-AF6D-59549DAE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20F-8EA3-4A08-868A-CD8E6E42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343-95C4-4C6B-8A03-8C5A4A7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A48-656C-4F62-BD80-A1382BA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840-33F9-42E1-B672-2A99C34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D92-E480-4EC6-AE3E-0F285B4C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D67-EA8E-4EB5-9EB6-3B541EB3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189-D304-4434-94AF-CDCBE325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35487-7895-4796-9D40-38529E523D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