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05087"/>
        <c:axId val="1277795"/>
      </c:barChart>
      <c:catAx>
        <c:axId val="42005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7795"/>
        <c:crosses val="autoZero"/>
        <c:auto val="1"/>
        <c:lblAlgn val="ctr"/>
        <c:lblOffset val="100"/>
        <c:noMultiLvlLbl val="0"/>
      </c:catAx>
      <c:valAx>
        <c:axId val="12777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05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F92C-F8B9-4C7D-9EDB-BE8CF2DC3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4E6-902E-414D-9F9A-0D2EE7BF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390-CFA7-49E8-9417-4B08FB8E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414E-1213-4C14-B788-63A9C362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B69-C57F-4130-A2FE-E4F18DD7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4A5-352E-4F83-A980-D9F89AB1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B672-59CE-4B2B-9A5D-8423C6C2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64C-E723-4DE1-88EE-6041134D3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E08-E92F-4F22-BEEF-2D0021F3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88EE-B7FF-4382-B26B-E4CB6222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D53-E573-41A1-A7BE-91D75B2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FBE-E4AC-4943-A5D0-25C9A1BA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1D4C7-EF97-4B99-ACF5-BD53116581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