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174"/>
        <c:axId val="4342484"/>
      </c:barChart>
      <c:catAx>
        <c:axId val="8000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2484"/>
        <c:crosses val="autoZero"/>
        <c:auto val="1"/>
        <c:lblAlgn val="ctr"/>
        <c:lblOffset val="100"/>
        <c:noMultiLvlLbl val="0"/>
      </c:catAx>
      <c:valAx>
        <c:axId val="4342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249-1811-40FC-82C4-27775255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981-68CC-4A1F-B9D3-702BC4E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5B0-A3A1-4268-936C-BF0C68F2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365-C36C-43BD-933A-4D557620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232-2AF1-4650-945A-F4A00E76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201-E696-4FC8-AB33-7A89A93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477-764E-4886-AA4B-C769185B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EAB-2F51-492D-97C9-179BEA66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96D-33D5-4CC2-A0AA-A38AC8AA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40B-8AD7-4F8A-B145-C9CB063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953-CE9D-4F5A-BFF0-51D3B8F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E7C-7AF2-4DDD-9DDD-4539267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7753E-D526-43B1-B200-050EA69C7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