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75808"/>
        <c:axId val="64510075"/>
      </c:barChart>
      <c:catAx>
        <c:axId val="23975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10075"/>
        <c:crosses val="autoZero"/>
        <c:auto val="1"/>
        <c:lblAlgn val="ctr"/>
        <c:lblOffset val="100"/>
        <c:noMultiLvlLbl val="0"/>
      </c:catAx>
      <c:valAx>
        <c:axId val="64510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5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FCB-3B59-4A70-BD80-A3D771D9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1FD-FA39-4E28-AB67-1D5C4AB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C00-B47F-49E3-B735-C5DE9FF9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97A-6F4D-4763-9B9E-CAAFD9D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4D9-C0D2-4752-9F2D-291B11A3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755-A79A-4318-83FB-619E5AA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D92-E40F-4AE9-BADB-3A440599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D15-FD4B-4985-BEC3-B30F2DAE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3AD-D21F-4D6C-8F90-4291AC4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B57-1831-4196-90A6-9BFEFCF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94C-BE1F-4AEA-AB4F-8E6452FE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7A7-D9FD-4A40-A996-B17B4F2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C0B3C-D2F6-4865-A631-CBA2E9002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