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163120"/>
        <c:axId val="62253874"/>
      </c:barChart>
      <c:catAx>
        <c:axId val="971631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53874"/>
        <c:crosses val="autoZero"/>
        <c:auto val="1"/>
        <c:lblAlgn val="ctr"/>
        <c:lblOffset val="100"/>
        <c:noMultiLvlLbl val="0"/>
      </c:catAx>
      <c:valAx>
        <c:axId val="622538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631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FB2A-8DAA-4BCD-B7C4-398D046B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352D-ABBE-4DB5-BE78-1962A603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CDF0-E0A7-49B4-BCBD-51912492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1AFF-2C2D-4FAE-84C2-FF75754B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838D-B3D5-4DEC-95E4-7BFF2353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C6DA-6A67-4486-94E5-399C3403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D570-4923-407B-A306-256F89AE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144C-8BCD-4E13-B40D-6B8C6611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A0C3-9873-44E6-978C-1279C8B3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B7CD-B088-4AEE-9604-8C78EE16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C3C1-2324-4D7C-9D4A-292D49F8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9B43-1BCD-4696-BAF5-94809C1D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FD86D-353B-4366-8208-31231180FC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