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711321"/>
        <c:axId val="61143830"/>
      </c:barChart>
      <c:catAx>
        <c:axId val="187113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143830"/>
        <c:crosses val="autoZero"/>
        <c:auto val="1"/>
        <c:lblAlgn val="ctr"/>
        <c:lblOffset val="100"/>
        <c:noMultiLvlLbl val="0"/>
      </c:catAx>
      <c:valAx>
        <c:axId val="611438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7113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EEB9-0A7D-4A68-89C6-FDDC98681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1DC9-B233-4B33-9571-8E935F35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5D73-B8D1-4F1F-857F-8F07294F5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8E69-556F-4364-8D6A-28B43756A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ACE9-5A9A-4246-8DB2-79694B0E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404B-045F-4A43-A25F-0604E2F5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EF24-94B2-4B0F-B64A-5B88A186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5A1F-C8FA-4F4F-B8D7-58DFEB2C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785A-AFFA-456B-B483-803A9696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E92E-F511-4CA1-8677-FAEB7601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7454-AF47-4089-8F3F-000AAC9D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CA16-A449-4E15-8980-AB743EE6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5A138-2A1C-408E-AD89-87DC9D349B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