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53771"/>
        <c:axId val="85673512"/>
      </c:barChart>
      <c:catAx>
        <c:axId val="91653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73512"/>
        <c:crosses val="autoZero"/>
        <c:auto val="1"/>
        <c:lblAlgn val="ctr"/>
        <c:lblOffset val="100"/>
        <c:noMultiLvlLbl val="0"/>
      </c:catAx>
      <c:valAx>
        <c:axId val="85673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53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ABD-A59F-4C92-846E-7BC7D298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2F8-F66F-4CCD-9E6D-535B0182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88D-2EAC-42D6-95D5-AE67A34A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3F5-1D15-4574-9775-F732D28C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8B7-F988-4677-B537-59E60C09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B8F-4E4D-4278-A20F-6E90039B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EBA-8DC4-4CCC-AD3B-648083E2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FD9-212C-4142-AD67-E4C951C4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13E-3DB4-4B88-938E-F4E80FD1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355-6BCD-4DCA-A0C4-D3A6889D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942-F7F9-477C-BB5C-297B13EF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B7D-758D-4ABC-81D5-2349FD1E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500F8-03E0-4424-B931-BE627F591C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