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8297"/>
        <c:axId val="92534412"/>
      </c:barChart>
      <c:catAx>
        <c:axId val="8158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4412"/>
        <c:crosses val="autoZero"/>
        <c:auto val="1"/>
        <c:lblAlgn val="ctr"/>
        <c:lblOffset val="100"/>
        <c:noMultiLvlLbl val="0"/>
      </c:catAx>
      <c:valAx>
        <c:axId val="92534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87E-C8E0-4F3C-BF4F-09894BD5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DF6-65B5-447F-B8F6-F85DB11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DDD-DB7A-42EB-97DE-C52EFFA3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5E1-8A0E-4F45-8CBA-C5E79533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160-32BC-4FF3-8A76-ED87F801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A44-7761-4D9E-B4C8-6221E3B5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7B3-332B-45EB-8DE3-BC5E75C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FA2-DEBC-4AA5-820A-E48096B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133-7454-4FEC-95AC-39BECE3F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D12-2B1D-4EB0-AE58-3E4E296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24C-3011-4E46-BB31-C148E3F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0D8-3869-4C9C-85CE-9657039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04306-0B25-4A62-A9FB-E76D8D679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