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1863-B144-45CB-ACAA-2B03B6FEC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DEA9-CF49-4527-BD5F-A7735AAF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95E4E2-BA8B-4890-80EF-A977AE779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8219D6-8216-47DA-9DF8-81AA262FC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35342C-8D66-4E25-9CFC-8630ED3FE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7C3CC6-5F9C-4D2B-A189-8F94A7C7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7692CA-AB14-47B7-8065-05827E3C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E5E6F4-3277-42F8-A920-6D7CFF00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8CC66A-28A8-4821-BC24-00571B82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EA13A7-86A4-4858-901E-293E1FB5E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665D2C-D1B0-4933-BD53-306520FE2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9B64B96-6804-479D-9F37-5E342E38A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5A9A-89E4-4EB0-A10E-A7219D22F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0572CE2-203B-441A-81E0-909047C1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67FBD82-61D0-4C14-87AB-AC457F71B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79EC2EC-CC38-445C-A84C-119956638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C7F4C71-2F94-4AB7-9139-8512FC9AE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572C2F6-8A5B-4ECF-84E2-56FB8A9D9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BE51B23-0562-40E4-A15A-3CC5946D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B15F1EC-73B7-4231-B571-75EE4385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BE0F668-8CBC-481D-8125-08E01022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F7AA29C-C834-4D1C-99B0-34AF9A405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206C23C-F523-41B3-8C50-BF9C325EF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1D17-7CD2-4E1D-AAF6-CB24AD6C0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13B52B1-9CF9-43DC-A1E4-5CB1F530F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957F6E-2393-472D-8520-D12BE18C7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B23E9E-361E-4B7A-93A1-F0E4F1A74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3D70F0-F572-4505-9735-0986F88A0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2F7A6A-D100-4855-AD8F-C66B916C2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B44A34-1E3F-4F97-9E7B-770D3C0D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DB6796-9753-42BB-BC65-13DD062C6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C2DC41-4CD7-41BB-8E24-1383B8ED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474C83-3949-43F6-A010-F01993D3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3198F4-246B-467A-AD89-8B7BE935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DD79E-6A21-44AF-B23F-7C9BB23D2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AD9E5A-ACB1-45C8-8B00-8D24C9FD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4F521D-743C-4D64-AE1F-0B07F8AE1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C8A9F1-05E7-40B5-9033-D55436D2B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BDE1B6-1E8A-42D2-BC4B-97F821039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9522AE-FA06-458F-B876-BBEA6D11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563F7D-CBA9-4F8E-8CE3-F300501C4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97D2C4-0591-445F-98F8-587D2E730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6623F0-6DEA-42BB-83E2-08C4105AE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B8EDC9-13EF-439C-88E8-5BBD6A602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45A04A-2711-4122-B7EA-4FFBA44B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D31FA-AE0D-4FA0-80AE-5370B39E2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7D4A39-2289-4D83-810A-3AE50558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36D7FA-1596-41AD-AEC3-2553F7C6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D24650-62F9-4E29-A1BB-5150FA1A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EE0875-8B4B-4041-A9CF-726D7C0C3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AC1B98-E3AF-48EE-9789-8657FB0DE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6292C-9166-4FCF-BD2C-4CBD71665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57597-EAB5-4E48-A790-88078AC5C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09151-ED0D-4BED-A1F9-45D21B984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33233-8E22-4C13-B672-38874ABD6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A814B-EC6E-4DF2-9D5C-C3D77DD3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A66C-0A92-4862-847A-6D3C43AFE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546D0-3170-498C-8ED9-6F1A6731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8A01E-3B27-41C5-A07B-E16B750F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61B31-88EE-4947-8E21-D1D1041EA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4FD8C-7F1C-48DC-8A9A-7969EDB60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1702C-6BBB-4CCC-92D1-0B4D46CA0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62DC9-9350-4791-8720-578527AFF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70EAC-90BA-4F77-8204-00B90C40A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639A1-743F-451F-9FC2-7C4C98202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41BFA-0FF8-409C-9FE0-F4F0A06BE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D6C0D-19A5-48FB-AE89-4C856B7EF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846F-9AD4-4885-871B-EF961FBC3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64565-3175-43D7-8F7B-14591BF97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CA7CB-F67E-4A9B-96A3-E5DB3177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4AC73-8DBD-4AF7-81C9-D67047F2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EBD37-13EB-48A2-95A6-C173248E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5E823-532F-4D8D-8445-7D8AD2DB3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73052-2435-43E2-BF44-1BB1E3F8E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E3C4B-61F0-4F4D-A972-04425BC0C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E578C-1B09-401A-B29E-7BD5308FE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9475B-81BD-49DD-98C7-2BE3853DF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AFBF8-E6FD-4BC8-97D3-1223F3E0B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AFA8-519D-4C0F-8074-F291F957B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A4340-E389-4902-97D3-2A421F58A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19327-872B-42A6-9C0A-62E28E7FC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82CD1-FFFA-413B-8BF6-AB842259C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A12C6-83E2-49AE-A762-6D34E2F1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B0D2E-5844-4858-A5EC-2AF41E01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CAAE0-C949-4FDF-89D8-90A425B2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EBDBF-6DC2-4AA2-844F-217CF931B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F61A1-44E9-4582-8766-696B7AF18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C6E58-8E03-45A0-BBE8-EC8C9333C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174686-FD34-46E0-AAFB-DFB3F559B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98E3-1513-424C-A383-48EB8FA71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2E92B3-7E09-4071-A872-16F524880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E5B645-5644-458E-9397-5BD6194D1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C0A2C9-6E57-47B1-857B-612B1E26A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02442A-A7BF-4B8E-8F0C-128027355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A86556-216A-492D-96C1-469636B3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45538E-0629-4F7B-B391-1D3343BF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4B8E4F-F554-49B9-A528-86C69102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A846AB-0A53-4762-B6E7-84F7C726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734517-0BBE-41DA-9A6E-18C25BDB4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274F55-B087-4C2A-A929-B9801E552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62B2-1F5F-48F4-A1F2-9F50AD1BE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BD769A-9B68-41D0-8372-6ACE88264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A253B-95EB-4940-A045-06F660507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84111-3FD8-409B-BF56-3CB1F1C2A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35D32-CE8B-4326-828F-02895FC73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C259D-D7D1-4120-A157-DE87377B8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A46F5-E1F3-4420-A5C4-B8E311B83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B2AA1-F34D-4708-B3DB-D9AE739AE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72437-696A-4E1C-9CDE-209D853E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A0F34F-0A65-40F3-9AC2-57BDC729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AFC3D-5E92-48C2-AED6-64ADE73B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349A-4BB9-436C-9A3D-CB87F7AC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C5AA1-4866-43A9-809D-2D148CA8A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650C7-8099-47A2-988B-1759CBB7F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A71AA-48D0-4AA5-BF37-A87080688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7576D4-9F17-4123-B758-0C5BD82DC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4B755-41B9-448A-A2D2-35E1A4171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F3C725-5137-4E7A-A422-233305165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36785-A8B2-4EE9-B568-7642CA84A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FBF64-BC7D-41DB-AE62-D9DA1625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BD959B-E4FC-4572-8A62-453A4918D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C2FEB1-980E-4A6F-979B-437AE9E4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A990-5436-4DCC-917F-7BB971EE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0D3BE-F543-4742-8CB5-6F1E4FA2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AC774A-0F11-4E38-A6E8-A5D26EEF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40DD80-1317-4A11-87B9-98E8C20D0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BCB6FE-0B98-4F41-8ED0-669A89996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8399F-20CE-4AA9-AC43-0C25053A6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B7A1F9-CD85-43D4-8ED4-A1B63DF73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28E36C-3F7E-4CD2-88AE-A11E299F5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233EF5-1170-4449-A20C-0C5131671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6030C6-1BE8-459B-90E0-5BAA20509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B0C01E-466A-4856-98A5-7BEAA4485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B09C-2EFB-4ECF-9EE5-63B8B7F8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D9804B-7EC5-4904-9780-EA612E17C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41B5FF-9653-46A8-94A6-CFA71F60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8ED5B-DC31-49F3-BCF5-9FACFC76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A43AD5-4B9E-44A9-9F56-822D4123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870D56-5043-42B5-964B-8371E17BA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F08EC2-409E-4C95-8E0D-C240AE68B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4AECDA-A70C-4A22-9C89-A72EC97E2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EEE2D7-7171-40E3-93BA-55FFDFA7A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12AE98-E09A-44C1-98E5-F9FCEBA13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D576C3-465B-47FE-8634-7EC63F38D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E85FB-CC51-4321-9301-8AE78285C28B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CBBFA-7834-4945-8C15-5E5C8D0BCE9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59437-07A5-4F41-9660-C1A9424BD95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403D5-519D-47EE-9E12-B457F8426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C0900-7208-4C4A-8303-B5F1690694AA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92B99-0C32-46B4-B254-9F312D42C4E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1496D-7768-429B-8998-9B47E541765B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3223F-D44A-4511-A343-1D491BB6459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7C903-98C1-4F05-A171-C0FD286C6E98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0D3DE-DD7D-4989-85D0-9EF53FB3A73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FA799-BD83-480C-B47A-4298B524732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E541A-ED0D-4B15-95F6-C1038D1228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7E89-3B8E-426A-813F-392247E4BE0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64CAE-62F1-45B7-AE18-D439020EDF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BEAC2-E580-4B0C-BBE5-DAAF35488A3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C8515-9AB3-4F4E-B953-CE6621DA6326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B4158-DE3F-48DA-AFE3-A7E24BB53834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129E4-F152-4801-ADFD-61FAAF90D33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03784-4750-45EA-806D-335A0732247C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5DEAC-C78E-4B53-96BE-825C798E8CC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E0EB1-7375-4A25-BA53-8D34DC864AFE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BD251-56EC-4248-AA2D-11873DC470F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1247A-3560-49F6-BAC4-86AAD5284A9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CC489-A787-4B76-A39D-7F791BB95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ACD1-93F7-4C45-9103-D40B860A246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9BE259-550F-491E-9DEA-42E21838DBB7}" type="datetime1">
              <a:rPr lang="en-US"/>
              <a:t>07/29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44179-4245-4892-A195-64DA677598E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CAD81C74-D47A-4DEE-A0A5-316D97B206C7}" type="datetime1">
              <a:rPr lang="en-US"/>
              <a:t>07/29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28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19C27-5D7E-4544-9B43-CFAAA0581A08}" type="slidenum">
              <a:t>3</a:t>
            </a:fld>
          </a:p>
        </p:txBody>
      </p:sp>
    </p:spTree>
  </p:cSld>
  <p:transition>
    <p:comb dir="horz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4554ED-9166-4753-9EBC-C0BC42312ADC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C97DD76D-9C9A-474C-9ACE-32580E7A3989}" type="datetime1">
              <a:rPr lang="en-US"/>
              <a:t>07/29/26</a:t>
            </a:fld>
          </a:p>
        </p:txBody>
      </p:sp>
    </p:spTree>
  </p:cSld>
  <p:transition>
    <p:wedg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6000"/>
                            </p:stCondLst>
                            <p:childTnLst>
                              <p:par>
                                <p:cTn id="2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8000"/>
                            </p:stCondLst>
                            <p:childTnLst>
                              <p:par>
                                <p:cTn id="2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A94A42-FF00-46EA-A28D-3EB0A9DF584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EEAE8E57-0FA1-4353-BEE7-F317309D0CA0}" type="datetime1">
              <a:rPr lang="en-US"/>
              <a:t>07/29/26</a:t>
            </a:fld>
          </a:p>
        </p:txBody>
      </p:sp>
    </p:spTree>
  </p:cSld>
  <p:transition>
    <p:wipe dir="d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4000"/>
                            </p:stCondLst>
                            <p:childTnLst>
                              <p:par>
                                <p:cTn id="2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0"/>
                            </p:stCondLst>
                            <p:childTnLst>
                              <p:par>
                                <p:cTn id="29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7000"/>
                            </p:stCondLst>
                            <p:childTnLst>
                              <p:par>
                                <p:cTn id="3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9000"/>
                            </p:stCondLst>
                            <p:childTnLst>
                              <p:par>
                                <p:cTn id="3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0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5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1BEC8C-BF1E-4CCD-81B4-504E28E854C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E83342C7-4147-4EE5-A2E0-C708F90849B2}" type="datetime1">
              <a:rPr lang="en-US"/>
              <a:t>07/29/26</a:t>
            </a:fld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5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6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4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5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